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248-C022-42F9-946A-39DB9F4F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FC4-9E86-4ED8-B8B8-DD75276C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F45-FE51-42BB-8AA1-A94C2AED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781-77D4-413C-83F0-708DB416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155-F934-4398-9B37-D42E873B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197-D0D8-496A-88FE-01871D6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E73-4D49-45DA-BC82-5E4AF68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8C-786B-4230-88DC-243B71B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B34-A113-424F-AC68-26C4FF9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9D3-8516-45A4-A563-2D3FD7D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4A2-A329-43DB-A71A-8483E0D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728-5F58-4FC6-9856-24A609C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560C-8845-4035-9AF2-67C1F92A8D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fioco.ru/&#1087;&#1088;&#1080;&#1084;&#1077;&#1088;&#1099;-&#1079;&#1072;&#1076;&#1072;&#1095;-pi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429080"/>
            <a:ext cx="8820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Развитие функциональной грамотности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ри подготовке к ВП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143160" y="5445000"/>
            <a:ext cx="5643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дготов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учитель географии МБОУ СОШ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евина Людми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Наталья\Downloads\0_78e60_fbe60891_orig.png"/>
          <p:cNvPicPr/>
          <p:nvPr/>
        </p:nvPicPr>
        <p:blipFill>
          <a:blip r:embed="rId2"/>
          <a:stretch/>
        </p:blipFill>
        <p:spPr>
          <a:xfrm>
            <a:off x="214200" y="2143080"/>
            <a:ext cx="2422800" cy="200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Наталья\Downloads\0_785c0_495b415a_orig.png"/>
          <p:cNvPicPr/>
          <p:nvPr/>
        </p:nvPicPr>
        <p:blipFill>
          <a:blip r:embed="rId3"/>
          <a:stretch/>
        </p:blipFill>
        <p:spPr>
          <a:xfrm>
            <a:off x="4357800" y="1928880"/>
            <a:ext cx="140472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Users\Наталья\Downloads\0_7770b_25bcca57_orig.png"/>
          <p:cNvPicPr/>
          <p:nvPr/>
        </p:nvPicPr>
        <p:blipFill>
          <a:blip r:embed="rId4"/>
          <a:stretch/>
        </p:blipFill>
        <p:spPr>
          <a:xfrm>
            <a:off x="6429240" y="1857240"/>
            <a:ext cx="239724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Наталья\Downloads\0_785c1_1cbef26_orig.png"/>
          <p:cNvPicPr/>
          <p:nvPr/>
        </p:nvPicPr>
        <p:blipFill>
          <a:blip r:embed="rId5"/>
          <a:stretch/>
        </p:blipFill>
        <p:spPr>
          <a:xfrm>
            <a:off x="2286000" y="785880"/>
            <a:ext cx="1773360" cy="1857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4572000" y="4338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только тогда становится знанием, когда оно приобретено усилиями своей мысли, а не памя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.Н.Тол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о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6900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емля – часть Солнечной системы. Движения Земли и их следств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 6 класс)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2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о в это же время делает его сверстник Юрий, который живёт в Липецке, если он соблюдает тот же режим дня, что и Денис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4200" y="164268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Использовать данный тип заданий при закреплении темы «Движения Земли и их следствия». При изучении темы «Земля как планета солнечной системы» необходимо использовать модели или видеофрагменты, чтобы показать следствия годового и осевого движения Земли, влияние движения Земли на продолжительность светового дня, изменение угла падения солнечных лу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При решении данных заданий актуализировать умение о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ремя на механических и электронных ча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Формировать умение соотносить время на часах со временем режима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4249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221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NewRoman"/>
              </a:rPr>
              <a:t>Температура воздуха. Суточный и годовой ход температур и его графическое отображение. Среднесуточная, среднемесячная, среднегодовая темпе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адания ВП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теорологической станции города N в 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а наблюдали за температурой воздуха. По результатам наблюдений метеорологи построили график годового хода температуры. Рассмотрите график годового хода температуры и ответьте на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месяц был самым холодным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годовая амплитуда температу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Использовать задания при составлени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оведении практической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пределение средних температ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мплитуды и построение граф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анные брать из календаря природы сай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исмете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291456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7018200" y="2583000"/>
            <a:ext cx="1548000" cy="529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2627280" y="11592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NewRoman"/>
              </a:rPr>
              <a:t>Графическое отображение направления ветра.  Роза в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NewRoman"/>
              </a:rPr>
              <a:t>Задание ВПР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: На метеорологической станции города N в январе были проведены наблюдения за направлением ветра. По результатам наблюдений метеорологи построили розу ветров. Рассмотрите розу ветров и ответьте на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6.1. Какой ветер чаще всего дул в янва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адания при составлен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и практической раб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троение розы ветров, анал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лученных данных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брать из календаря природы сай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смете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289480" y="2852640"/>
            <a:ext cx="3130560" cy="315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692360" y="1268280"/>
            <a:ext cx="154764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266076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952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а в атмосфере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лака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16399" t="36969" r="2347" b="19405"/>
          <a:stretch/>
        </p:blipFill>
        <p:spPr>
          <a:xfrm>
            <a:off x="468360" y="2276640"/>
            <a:ext cx="8582040" cy="410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1542960" cy="5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1938240" y="1824120"/>
            <a:ext cx="2176560" cy="46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246852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16621" t="30527" r="21013" b="27313"/>
          <a:stretch/>
        </p:blipFill>
        <p:spPr>
          <a:xfrm>
            <a:off x="55440" y="1557360"/>
            <a:ext cx="9088560" cy="46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5078520" cy="112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084720" y="1989000"/>
            <a:ext cx="2695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NewRoman"/>
              </a:rPr>
              <a:t>Влажность воздуха. Понятие погоды. Наблюдения и прогноз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7618" t="22328" r="39900" b="13844"/>
          <a:stretch/>
        </p:blipFill>
        <p:spPr>
          <a:xfrm>
            <a:off x="2475000" y="1268280"/>
            <a:ext cx="5999040" cy="5473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468360" y="16779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адание ВП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682560" y="1944720"/>
            <a:ext cx="1542960" cy="530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27080" y="2459160"/>
            <a:ext cx="234612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адания при составлен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и практическ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бот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ли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ртами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13200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4200" y="19494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7 классе тренировочные практические работы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«Определение высот и глубин географических объектов с использованием шкалы высот и глубин», «Построение профиля рельефа местности (на примере любого материка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Формировать умение сопоставлять профиль рельефа и его отображение на географической или топографической ка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Формировать умение вычислять расстояния на карте в градусах по параллелям и меридианам (между точками лежащими на разных меридианах, но на одной паралл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714680" y="575640"/>
            <a:ext cx="7429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лавные закономерности природы Зем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7 класс)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На уроке географии Максим построил профиль рельефа Евразии, представленный на рисунке 1. Используя рисунок 1 и карту мира, приведённую на странице 4, выполните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643040" y="189000"/>
            <a:ext cx="7429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ие и страны мира (7 класс)</a:t>
            </a:r>
            <a:br>
              <a:rPr sz="20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6.1. На политической карте мира выделите штриховкой страны, в которых живут подро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50920" y="155736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7 классах  тренировочные практические работы: «Работа с графическими и статистическими данными», «Составление географической характеристики страны Европы и Азии по картам атласа и другим   источникам географической информа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Давать тренировочные задания после изучения политической карты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Проводить уроки-практикумы. Приведен пример урока-практикума «Работа с климатическими диаграммами»  (приложение к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Формировать умение интерпретировать, анализировать географическую информацию, представленную в виде таблиц, схем, графиков, диаграмм, картосх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714680" y="134136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.2. Рассмотрите представленные ниже рисунки. Выберите рисунок с контуром страны, в которой живёт Ваш сверстник. Запишите в ответе букву, которой обозначен этот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5600" y="500040"/>
            <a:ext cx="7358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собенности географического положения Росс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8 класс)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дание 1 направлено на проверку сформированности представлений о граничащих с Россией странах и особенностях границ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сле выполнения практической работы «Характеристика  географического  положения», можно предложить  небольшие задания - тренинги на знание государств - соседей первого порядка. Для этого желательно использовать  несколько вариантов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Целесообразно применять фронтальные мини-зачеты по карте в  течение 5 -10 минут, когда обучающиеся показывают объекты на картах атл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 В конце изучения темы целесообразно провести тренинг уже с помощью заданий,  опубликованных  на  сайте  «Решу  ВПР»  и из открытого банка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3004" t="23789" r="51759" b="9454"/>
          <a:stretch/>
        </p:blipFill>
        <p:spPr>
          <a:xfrm>
            <a:off x="1979640" y="115920"/>
            <a:ext cx="6048360" cy="669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24000" y="191628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оставляю задания для практической работы на основе задний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483920"/>
            <a:ext cx="8713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ональная грамотность на ступени общего образован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атривается как метапредметный образовате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разованности подразумевает использование полученных знаний для решения актуальных проблем обучения и общения, социального и личностного взаимо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способствует адекватному и продуктивному выбору программ профессионального образования, помогает решать. бытовые задачи, взаимодействовать с людьми, организовывать деловые контакты, выбирать программы досуга, ответственно относиться к обязанностям гражданина, ориентироваться в культурном пространстве, взаимодействовать с природной ср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определяет готовность к выполнению социальных ролей избирателя, потребителя, члена семьи, студ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позволяет использовать имеющиеся навыки при организации разных видов путешествий, облегчает контакты с различными социальными структурами и организациями и т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630680" cy="626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791240" y="476280"/>
            <a:ext cx="41767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Прочитайте текст и выполните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Печора – река на севере Европейской части России, протекает в Республике Коми и Ненецком автономном округе. Печора начинается на Северном Урале на высоте 630 м над уровнем моря. В верхнем течении – это горная река с порогами и водопадами. В среднем и нижнем течении река спокойно несёт свои воды по Печорской низменности, несколько раз меняя направление течения, и впадает в Печорскую губу Баренцева моря. На Печоре развито судоходство, морские суда поднимаются вверх по течению реки до морского порта Нарьян-Мар, расположенного в 110 км от устья. Также самыми крупными портами являются города Печора и Вуктыл. По  протяжённости Печора занимает третье место среди рек Европейской части России после Волги и Дона, её длина составляет 1809 км, что примерно равно длине Камы – самого крупного левого притока Вол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Другая крупная северная река Европейской части России – Северная Двина – «соседка» Печоры – уступает ей по протяжённости более чем в 2 раза. На Печоре развито рыболовство, здесь ловят сёмгу, ряпушку, сиговых ры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В бассейне реки добывают нефть, газ, каменный уголь, здесь также активно проводятся лесоза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нтернет-источники задани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 функциональн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ля формирования и оценки функциональной грамотности обучающихся основной школы предлагается использовать материалы из следующих интернет-источ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ытый банк заданий на сайте федерального государственного бюджетного научного учреждения «Институт стратегии развития образования Российской академии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ткрытый банк заданий на образовательной платформе «Российская электрон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крытые задания PISA на официальном сайте  федерального государственного бюджетного учреждения «Федеральный институт оценки качества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Открытый банк заданий для оценки естественнонаучной грамотности (VII-IX классы) на официальном сайте федерального государственного бюджетного научного учреждения «Федеральный институт педагогических измер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1"/>
              </a:rPr>
              <a:t>Открытые задания PISA на официальном сайте  федерального государственного бюджетного учреждения «Федеральный институт оценки качества образования»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280" y="148428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сайте ФИОКО представлены открытые задания исследования pisa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естествознан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грация пт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г в жаркую по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е склонов дол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еороиды и крат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циональное разведение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читательской грамо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иный фор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пану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овье моло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глобальной компетен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уровня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динственный сю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ичная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лимпийская команда бежен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зыковая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1052280"/>
            <a:ext cx="69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c8c93"/>
                </a:solidFill>
                <a:uFillTx/>
                <a:latin typeface="Times New Roman"/>
                <a:ea typeface="Calibri"/>
              </a:rPr>
              <a:t>Открытый банк заданий для оценки естественнонаучной грамотности (VII-IX классы) на официальном сайте федерального государственного бюджетного научного учреждения «Федеральный институт педагогических измерений»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640" y="2133720"/>
            <a:ext cx="878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ГБНУ «Федеральный институт педагогических измерений» представляет банк заданий для оценки естественнонаучной грамотности обучающихся 7 – 9 классов, сформированный в рамках Федерального проекта «Развитие банка оценочных средств для проведения всероссийских проверочных работ и формирование банка заданий для оценки естественнонаучной грамот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проекта разработана типология моделей заданий для определения уровня естественнонаучной грамотности у обучающихся 7 – 9 классов и, на ее основе, разработаны задания, которые способствуют формированию естественнонаучной грамотности обучающихся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нк заданий для оценки естественнонаучной грамотности обучающихся 7 – 9 классов включает 700 разработанных заданий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 заданий для обучающихся 7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 заданий для обучающихся 8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Users\Наталья\Downloads\kartinka-na-temu-spasibo-za-vnimanie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31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ая задача проведения ВП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Оценить уровень общеобразовательной подготовки обучающихся в соответствии с требованиями ФГОС.  ВПР позволяет осуществить диагностику достижения предметных и метапредметных результатов обучения, в том числе овладение межпредметными понятиями и способность использования универсальных учебных действий (УУД) в учебной, познавательной и социа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Задания ВПР носят компетентностный характер, то есть проверяют применение знаний на практике, в том числе навыки работы с картами, текстами, статистическими материа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ВПР оцениваются предметные и метапредмет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500040" y="1643040"/>
            <a:ext cx="2428920" cy="45720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4572000"/>
              <a:gd name="textAreaBottom" fmla="*/ 4453560 h 4572000"/>
            </a:gdLst>
            <a:ahLst/>
            <a:rect l="textAreaLeft" t="textAreaTop" r="textAreaRight" b="textAreaBottom"/>
            <a:pathLst>
              <a:path w="21600" h="40655">
                <a:moveTo>
                  <a:pt x="3600" y="0"/>
                </a:moveTo>
                <a:arcTo wR="3600" hR="3600" stAng="16200000" swAng="-5400000"/>
                <a:lnTo>
                  <a:pt x="0" y="37055"/>
                </a:lnTo>
                <a:arcTo wR="3600" hR="3600" stAng="10800000" swAng="-5400000"/>
                <a:lnTo>
                  <a:pt x="18000" y="40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егулятивные универсальные учебные действия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целеполагание, планирование, контроль и коррекция, саморегуля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3286080" y="1643040"/>
            <a:ext cx="5715000" cy="457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щеучебные универсальные учебные действия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оиск и выделение необходимой информации; преобразование информации из одной формы в другую; структурирование знаний; выбор наиболее эффективных способов решения задач в зависимости от конкретных условий; рефлексия способов и условий действия; контроль и оценка процесса и результатов деятельности; определение основной и второстепенной информации; моделирование, преобразование модели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6"/>
          <p:cNvSpPr/>
          <p:nvPr/>
        </p:nvSpPr>
        <p:spPr>
          <a:xfrm rot="3279000">
            <a:off x="2485080" y="1185120"/>
            <a:ext cx="361800" cy="5000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7"/>
          <p:cNvSpPr/>
          <p:nvPr/>
        </p:nvSpPr>
        <p:spPr>
          <a:xfrm rot="18420600">
            <a:off x="5616720" y="1193400"/>
            <a:ext cx="361800" cy="4698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ВПР оцениваются предметные и метапредмет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428760" y="1643040"/>
            <a:ext cx="3929040" cy="450072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500720"/>
              <a:gd name="textAreaBottom" fmla="*/ 4309200 h 4500720"/>
            </a:gdLst>
            <a:ahLst/>
            <a:rect l="textAreaLeft" t="textAreaTop" r="textAreaRight" b="textAreaBottom"/>
            <a:pathLst>
              <a:path w="21600" h="24743">
                <a:moveTo>
                  <a:pt x="3600" y="0"/>
                </a:moveTo>
                <a:arcTo wR="3600" hR="3600" stAng="16200000" swAng="-5400000"/>
                <a:lnTo>
                  <a:pt x="0" y="21143"/>
                </a:lnTo>
                <a:arcTo wR="3600" hR="3600" stAng="10800000" swAng="-5400000"/>
                <a:lnTo>
                  <a:pt x="18000" y="24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Логические универсальные действ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нализ объектов в целях выделения признаков; синтез, в том числе самостоятельное достраивание с восполнением недостающих компонентов; выбор оснований и критериев для сравнения; подведение под понятие; выведение следствий; установление причинно-следственных связей; доказате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643280" y="1643040"/>
            <a:ext cx="4071960" cy="45007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500720"/>
              <a:gd name="textAreaBottom" fmla="*/ 4302000 h 4500720"/>
            </a:gdLst>
            <a:ahLst/>
            <a:rect l="textAreaLeft" t="textAreaTop" r="textAreaRight" b="textAreaBottom"/>
            <a:pathLst>
              <a:path w="21600" h="23874">
                <a:moveTo>
                  <a:pt x="3600" y="0"/>
                </a:moveTo>
                <a:arcTo wR="3600" hR="3600" stAng="16200000" swAng="-5400000"/>
                <a:lnTo>
                  <a:pt x="0" y="20274"/>
                </a:lnTo>
                <a:arcTo wR="3600" hR="3600" stAng="10800000" swAng="-5400000"/>
                <a:lnTo>
                  <a:pt x="18000" y="23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Коммуникативные универсальные учебные действия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: умение выражать свои мысли в соответствии с задачами и условиями коммуникации, осознанное и произвольное построение речевого высказывания в письменной форме; владение монологической формой речи в соответствии с грамматическими и синтаксическими нормами родн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6"/>
          <p:cNvSpPr/>
          <p:nvPr/>
        </p:nvSpPr>
        <p:spPr>
          <a:xfrm rot="3279000">
            <a:off x="2485080" y="1185120"/>
            <a:ext cx="361800" cy="5000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7"/>
          <p:cNvSpPr/>
          <p:nvPr/>
        </p:nvSpPr>
        <p:spPr>
          <a:xfrm rot="18420600">
            <a:off x="5616720" y="1193400"/>
            <a:ext cx="361800" cy="4698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пешная подготовка к ВПР по географии – залог подготовки детей к выполнению заданий по функциональной грамотнос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истемную работу целесообразно выстраивать на основе трех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Основно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флексив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данном этапе подготовку обучающихся необходимо начать с изучения педагогом описания и демоверсии ВПР предыдущего (текущего) года, обратив внимание на предметные и метапредметные умения. Важно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соотнести описание работы с тематическим планирование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, уяснив точки совпадения/тематической состык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4996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сновной этап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этом этапе четко следовать плану подготовки к ВПР, который включает в себя список ключевых тем для повторения.  Это позволит параллельно с изучением нового материала системно повторить пройденное ранее.  Продумать небольшие задания, которые можно давать обучающимся для выполнения на дом, с последующей проверкой и объяснением на уроке (мини-практические работы , устные  упражнения, дифференцированная работа с классом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флексив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 итогам написанной работы необходимо проанализировать ее результаты. Обратить внимание на удачно выполненные задания и задания, которые вызвали наибольшее затруднение у учащихся, выявить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92880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основании анализа ВПР 6-8-х классов можно выделить ряд заданий вызывающих затруднения у большей части участников ВПР и относящихся к следующим содержательным разделам курса «География»: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звитие географических знаний о Земле (6 класс)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.2  С каким из названных Вами материков связаны открытия путешественников и исследователей, изображённых на портретах? Укажите название материка. Подпишите на карте океаны, омывающие берега указанного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20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5 классе тренировочные практические работы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«Работа с картой «Имена на карте»; «Описание и нанесение на контурную карту географических объектов, изученных маршрутов путешестве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Использовать данный вид заданий для отработки содержания и способов деятельности с картографическими источниками информации, используя интернет-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612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зображения земной поверхности (6 класс)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2.1 Поставьте точки на карте по приведённым ниже координатам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  Обозначьте эти точки соответственно цифрами 1 и 2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чка 1 – 8° с. ш. 81° в. д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чка 2 – 29° с. ш. 81° в. д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В каком направлении от точки 1 расположена точка 2?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вет. _________________________________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.2. Точка 2 расположена на территории крупного географического объекта. Прочитайте текст, рассмотрите фотографию и космический снимок и укажите название этого географического объек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14200" y="342900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5-6 классе тренировочные практические работы: «Определение координат географических объектов по карте»; «Определение положения объектов относительно друг друга»; «Определение направлений и расстояний по глобусу и кар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2920" y="4857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Применяя групповые формы работы, составлять алгоритмы определения географических координат. Формировать понятия «географическая широта», «географическая дол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14200" y="571500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Организовать работу с фотографиями и космическими снимками, используя приёмы сравнения, анализа (карта-фотография- космосним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652840" y="184320"/>
            <a:ext cx="4141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ые элементы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03-21T20:39:59Z</dcterms:modified>
  <cp:revision>763</cp:revision>
  <dc:subject/>
  <dc:title>Diapositiva 1</dc:title>
</cp:coreProperties>
</file>